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3D0-747F-48B3-A200-9C6BD7E1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2B5-268F-4ADA-9832-D5ACB468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A90-B5B6-47D5-B5D0-AC91F357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2EE-CD76-4FF5-89B9-5A4C1A2F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914-CD15-4DB5-BE3F-1DB98CBB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A09-B3D7-4C45-8E5C-4FF4D735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617-5560-41C9-A1EC-9A98E76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5FA-70F7-4090-AE34-C5BAA4B2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727-FF49-49D4-AC1C-BC93A2A0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7C3-D044-4BDB-AE09-DF850C4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BF4-5764-4C09-8CB7-0BE78B89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7F9-45AF-4C70-9B69-3BA97A12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6125-5CA3-4283-8D3B-D735DA3D7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Graffiti"/>
              </a:rPr>
              <a:t>Amcangyfrif y Cymedr a Grwp Moddol 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Graffiti"/>
              </a:rPr>
              <a:t>ar Gyfer Data Wedi’i Grwpi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198720" y="-115920"/>
            <a:ext cx="55782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ta wedi’i grw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7786800" cy="9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orwyd pum deg o fagiau losin. Dyma gofnod o faint oedd ym mhob b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82920" y="1773360"/>
          <a:ext cx="3960720" cy="4265280"/>
        </p:xfrm>
        <a:graphic>
          <a:graphicData uri="http://schemas.openxmlformats.org/drawingml/2006/table">
            <a:tbl>
              <a:tblPr/>
              <a:tblGrid>
                <a:gridCol w="1569240"/>
                <a:gridCol w="2391480"/>
              </a:tblGrid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fer o 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-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13120" y="6122880"/>
            <a:ext cx="43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 un yw’r grwp modd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84360" y="1773360"/>
          <a:ext cx="3959280" cy="4248000"/>
        </p:xfrm>
        <a:graphic>
          <a:graphicData uri="http://schemas.openxmlformats.org/drawingml/2006/table">
            <a:tbl>
              <a:tblPr/>
              <a:tblGrid>
                <a:gridCol w="1568520"/>
                <a:gridCol w="2390760"/>
              </a:tblGrid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fer o 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1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1b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-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82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e’r gwybodaeth isod yn dangos taldra 60 o bobl i’r cm agos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700360" y="907920"/>
          <a:ext cx="3567240" cy="4957920"/>
        </p:xfrm>
        <a:graphic>
          <a:graphicData uri="http://schemas.openxmlformats.org/drawingml/2006/table">
            <a:tbl>
              <a:tblPr/>
              <a:tblGrid>
                <a:gridCol w="2016360"/>
                <a:gridCol w="155088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dra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5 ≤ x ‹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 ≤ x ‹ 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5 ≤ x ‹ 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≤ x ‹ 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5 ≤ x ‹ 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0 ≤ x ‹ 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-198720" y="-115920"/>
            <a:ext cx="55782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ta wedi’i grw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7786800" cy="9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orwyd pum deg o fagiau losin. Dyma gofnod o faint oedd ym mhob b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482920" y="1773360"/>
          <a:ext cx="3960720" cy="4265280"/>
        </p:xfrm>
        <a:graphic>
          <a:graphicData uri="http://schemas.openxmlformats.org/drawingml/2006/table">
            <a:tbl>
              <a:tblPr/>
              <a:tblGrid>
                <a:gridCol w="1569240"/>
                <a:gridCol w="2391480"/>
              </a:tblGrid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fer o 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-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13120" y="6122880"/>
            <a:ext cx="43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 un yw’r grwp modd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84360" y="1773360"/>
          <a:ext cx="3959280" cy="4248000"/>
        </p:xfrm>
        <a:graphic>
          <a:graphicData uri="http://schemas.openxmlformats.org/drawingml/2006/table">
            <a:tbl>
              <a:tblPr/>
              <a:tblGrid>
                <a:gridCol w="1568520"/>
                <a:gridCol w="2390760"/>
              </a:tblGrid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fer o 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1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1b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-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1296720" y="-1065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ta wedi’i grw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orwyd pum deg o fagiau losin. Dyma gofnod o faint oedd ym mhob b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700280"/>
          <a:ext cx="6626160" cy="4263840"/>
        </p:xfrm>
        <a:graphic>
          <a:graphicData uri="http://schemas.openxmlformats.org/drawingml/2006/table">
            <a:tbl>
              <a:tblPr/>
              <a:tblGrid>
                <a:gridCol w="1299960"/>
                <a:gridCol w="1982880"/>
                <a:gridCol w="2117880"/>
                <a:gridCol w="12254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fer o 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olbwynt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-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869440" y="3068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9440" y="3645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9440" y="42195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9440" y="47959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2520" y="5372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520" y="5372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2520" y="4795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2520" y="42195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2520" y="3645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9440" y="3139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89400" y="6099120"/>
            <a:ext cx="27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yfanswm (∑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1440" y="6099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" y="6099120"/>
            <a:ext cx="256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yfanswm (∑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m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40960" y="6099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10080" y="2355840"/>
            <a:ext cx="20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mcangyfr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’r cymedr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29600" y="329076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45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÷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1400" y="38149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2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82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e’r gwybodaeth isod yn dangos taldra 60 o bobl i’r cm agos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981000"/>
          <a:ext cx="7201080" cy="4957920"/>
        </p:xfrm>
        <a:graphic>
          <a:graphicData uri="http://schemas.openxmlformats.org/drawingml/2006/table">
            <a:tbl>
              <a:tblPr/>
              <a:tblGrid>
                <a:gridCol w="2016360"/>
                <a:gridCol w="1550880"/>
                <a:gridCol w="2149560"/>
                <a:gridCol w="148428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dra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olbwynt y cyfwng (grwp)  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5 ≤ x ‹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 ≤ x ‹ 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5 ≤ x ‹ 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≤ x ‹ 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5 ≤ x ‹ 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0 ≤ x ‹ 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61720" y="604692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h yw’r grwp moddol ac amcangyfrif o’r cymed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251400" y="218916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41600" y="2909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6040" y="3573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7600" y="4205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7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54480" y="47815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1320" y="47815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1320" y="41497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1320" y="35002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1320" y="29098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64280" y="226224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98560" y="621036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yfanswm (∑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fx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6160" y="6210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94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600" y="6162840"/>
            <a:ext cx="216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yfanswm (∑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m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4800" y="6162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75240" y="2246400"/>
            <a:ext cx="20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mcangyfr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’r cymedr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8160" y="314172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47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÷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54360" y="36194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157.83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26280" y="414972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157.8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2 lle deg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1680" y="544500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1320" y="543096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8000" y="1052640"/>
          <a:ext cx="7200720" cy="4941720"/>
        </p:xfrm>
        <a:graphic>
          <a:graphicData uri="http://schemas.openxmlformats.org/drawingml/2006/table">
            <a:tbl>
              <a:tblPr/>
              <a:tblGrid>
                <a:gridCol w="2015640"/>
                <a:gridCol w="1551240"/>
                <a:gridCol w="2157120"/>
                <a:gridCol w="147672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dra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olbwy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5 ≤ x ‹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 ≤ x ‹ 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5 ≤ x ‹ 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≤ x ‹ 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5 ≤ x ‹ 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0 ≤ x ‹ 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24000" y="44280"/>
            <a:ext cx="88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e’r gwybodaeth isod yn dangos taldra 60 o bobl i’r cm agos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21:56:03Z</dcterms:created>
  <dc:creator>Dewi Williams</dc:creator>
  <dc:description/>
  <dc:language>en-US</dc:language>
  <cp:lastModifiedBy>Betsan Jones</cp:lastModifiedBy>
  <dcterms:modified xsi:type="dcterms:W3CDTF">2009-01-27T12:36:50Z</dcterms:modified>
  <cp:revision>2</cp:revision>
  <dc:subject/>
  <dc:title>Amcangyfrif y Cymedr a Grwp Moddol  ar Gyfer Data Wedi’i Grwpio</dc:title>
</cp:coreProperties>
</file>